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BF9D-DC0F-4098-A91A-17599F1F3C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D37-2D1D-4AF2-BE5F-2FE2C433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155-BECB-4152-97DB-37F96E03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F11-766F-4226-AEBD-526BE887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E0C-9F64-4C3C-80A3-3FFCFDEF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F9B3-01CC-47A2-8C46-67FDF432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A508-98AE-4CD0-B136-B805DB66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C5DA-89D6-41E7-B2D1-886AB8B9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D658-05E0-46A3-95B3-01C18D0D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BB5E-E0DB-4BD9-B60A-B53C1587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DA45-14FB-4B53-85F1-4B2B42EA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87E6-2961-4707-BD54-C5858579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D21-D991-4688-81FA-8D2C76E2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2FCC-29F7-4133-B50A-21A8C28B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2276-F805-43A0-A81B-6A41B7A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6BFC-31D7-4AE9-B4FA-06D17E1C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A277-C664-416A-AFED-AEECB4CF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C68B-019D-4FFF-BFC8-7FB59DBC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A16-E244-4937-B4AB-BB8D9E7A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173-36A8-4D42-B544-331CAB74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358-6361-4DE2-B963-A7841540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4AE-846D-4CB5-B4F4-70C86DF9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AEB-AE44-47FD-B0EA-D11312FE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D1C-15E4-490F-A7A8-7BB0D8DB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D6F-969F-4D75-B3FD-6FA0F74F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FCF1-3476-412A-82C2-66E47CE7CF9A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64CD-8E16-40CB-9FEE-7E9F2B4E0754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808080"/>
                </a:solidFill>
                <a:latin typeface="Century Gothic"/>
              </a:rPr>
              <a:t>Resultant Forces</a:t>
            </a:r>
            <a:endParaRPr b="0" lang="en-US" sz="6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63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12000" cy="2146320"/>
          </a:xfrm>
          <a:prstGeom prst="rect">
            <a:avLst/>
          </a:prstGeom>
          <a:ln w="25560">
            <a:solidFill>
              <a:srgbClr val="c0c0c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acting on a particle have magnitudes 8N and 3N. The angle between their directions is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. Find the resultant force acting on the particl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hree forces (2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–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3i N and (-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+ 4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where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re unit vectors due east and due north respectively, act on a particle. Find the magnitude and direction of the resulting forc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Forces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ct on a particle at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plane of the coordinate ax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y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making angl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respectively with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first quadr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 N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5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09:05Z</dcterms:created>
  <dc:creator>zafer</dc:creator>
  <dc:description/>
  <cp:keywords/>
  <dc:language>en-US</dc:language>
  <cp:lastModifiedBy>RomaK</cp:lastModifiedBy>
  <dcterms:modified xsi:type="dcterms:W3CDTF">2015-09-03T12:36:45Z</dcterms:modified>
  <cp:revision>4</cp:revision>
  <dc:subject/>
  <dc:title>Forces as Ve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